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90D8-58B2-4510-9A53-999034D7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311C-6E97-44CF-B9EE-7851AB0623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7F21-E928-452F-861B-32FEF5A402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E8CA-DF39-40F6-98C9-D00BCACD77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089C-68A4-4556-92AA-B654D084FC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3281-126E-459A-A8D1-038D878364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73080" y="465444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D36F-D84E-4F3E-972D-9D68162753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CE94-6B9D-499A-B479-4C5B0B9AC5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DC0A-5D0E-4253-B915-BFDB1672C0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8C14-C5CD-4B03-B9CB-1A57AD4862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7273-AF1F-4CED-AC31-CC2B417BAF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C33B-1527-4142-BE2C-8230FE966A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B951-A5FA-4FE0-9958-E1417DB9A7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EBA8-BE61-4F36-A55D-D09668E0F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9846-688F-4174-9EE8-49687D7779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4B88-8C6C-486F-A34C-27DCCE7D9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3935-EF69-4B04-9263-665398851D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2D34-E4A9-4542-AED7-733BED8A33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F9F8-DE51-47D2-A120-B6795E8AC9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5BCC-0C74-49B1-B6E6-ED495EF3DE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BF3B-7D99-4C6D-B03B-94F2E58D31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F116-1E00-40ED-94FA-E1C2B3E24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7039-0925-4636-B428-74EFE2E859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712-B1F9-4DAD-8077-76C949E71C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C65B-91C9-4BBD-9B55-04D9D735B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DC5E-353B-43BC-866A-11C0EE630D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B468-0982-4394-9618-65D0227EA4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A844-ADD8-4D24-9BD5-7792AA59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60E-D4C9-4B76-BC29-9AA02F8B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16B9A-EDD7-49A1-9D8E-D3C69AE6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74724-4CED-4E77-8884-C2B0DB64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F5237-3267-42B4-B8F2-CE83817B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74D39-AFFA-4439-999C-AD071027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93B4CB-C63B-4350-A6E2-6BD3AF70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7948C-5B18-4308-94FC-02AE706E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39395-B2E9-4DA1-A19E-B1B84725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C0980-6220-469D-89B8-6E993F2B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B9AA4-79C7-4D56-968B-33266B9F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438D2-E6E9-4657-92E7-E39C1A413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FBA-17F2-4C2E-957A-09F69B4D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02924-0145-4D02-98C7-C3B8BD54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A697F-1F16-4FDC-8297-F95105CCE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819AA-4379-4AE6-943F-6521BE7D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31A26-268B-4B87-B52E-C68CBBE9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C20C60-C24E-40C6-B41A-9F3D8ED5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D4E0C-74E8-46C3-A32F-DC3CD0C2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C7306-FB8D-4E73-8558-F80C48F8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81C97-6657-4C66-94C2-934E1264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EC31A-E784-464B-B152-88FDA39D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0CBFE-3F38-45E1-9C83-F57BD9AD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860-01D9-41C7-AE5B-88BB7747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BAD8F-8FF7-47AD-8114-6FA3EA8D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83001-6338-4273-B0CD-593B23FB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E4B1E-CD9B-4312-BDE1-C1AAEFE1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1D9E2-6C5F-44B1-B741-B9F65D2D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0BFEF-12A8-402B-90E6-116F12A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C54E5-C439-4E93-A204-DD23E8FC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5B5D1-16E6-499D-B521-C76DD7A6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6B063-B6C4-41EB-910C-CE6B66E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9FF4-624A-4294-A04F-9E35357E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29AEC-9B9E-4EBE-AAC4-23036FE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C0DC-6248-41AD-9C3C-12A923DC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A473F-1CE6-45FD-914D-D11F5F6E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63FBD-536A-48A4-9793-E21281A7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3683D-33C9-41B2-825B-93B78E37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8C0AA-82BE-4AF1-B310-A9C9F0BF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A01B1-FDFA-4C22-8F92-E40B79DF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80DBC-7A39-48C1-91B2-53651175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C442B-DFC8-45F7-B6AF-497E188B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99E18-354D-47D4-B2D9-7E623740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E6E32F-6F89-4450-A43A-E8258D4D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8524D8-0548-4803-A401-CF942ED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421AD-AC85-4D17-B4A8-9C3E78FF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BD9028-4BF4-4408-97DF-6146D8EC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9CB6B-BA04-4938-8D14-DA90D3EA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DD516-0314-41C7-B507-D0E03C78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C2FE0-02FB-4CE5-BB44-F3ABBFA1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A82E1-C8C3-46B6-8C38-C6B99FDF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EC7E-4EBC-4B98-88C8-F2FF23D9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EF69-E939-4E16-9282-23ACF647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8ED3-6460-4678-B571-B35EAB33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6372-8C08-491E-86DE-EE49360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E696-0AC8-4EC7-B934-2BACC18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F591-0D69-4D63-8A68-07F4C5D8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C75D-1825-4817-B318-065C0F08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1A7D-E6FA-4BC1-84FF-ED984FEC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ACAC-82E3-4524-8011-BF60A47A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4FBD-77A2-4A44-9171-4F4C483C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63AA-42A3-4625-9064-7FF7AA35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A132-F3B1-412B-BA6D-8A97204C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6A4A-D048-45AF-80EA-F2BC53EB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E4FA-DF39-452B-AAA1-CE6AFCB9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2661-9AE7-440D-8DB6-8ED6055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BBA2-C594-4579-8C8D-1F4E2DC3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D4A-FECF-412D-899A-8127DFE3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6A730-AF3B-4C4D-AC0C-98E27025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291A-B958-4B2A-B715-29542DB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E305-D9CA-4495-8265-8E438519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6919-ED63-4784-9FA4-8507EE9D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D3FDE-6FAA-42FF-804F-0E7D340E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491B1-4B82-45D6-8E4A-8B31F100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90433-057E-4FB7-A4A9-9A5DEBBE1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B48B-33D6-4B2D-8A30-E8F6C4E9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61C2-AA5D-4904-828E-E68907B1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A1A5C-6036-4576-93F3-5A8B31AA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E5D-076B-4C9B-AF86-13AE4893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D084-3A13-4EE5-A0FB-484D0674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84B55-73A5-4B1C-B4C7-35C25C98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B463-1EBB-499F-894C-0F0BB775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A2D1-14AB-429B-8EC6-EBABB9CB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1A03C-1797-42D6-8566-617C8537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60420-6F81-45E7-B4A8-BE0049E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2BE1E-1B6E-4634-A35C-303980EE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A936-89F8-4D80-BBAC-2ED4FF39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489B0-0B9B-4C9B-8394-7444A021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77593-5185-447B-944D-69B28E0A9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511-573B-4D40-840A-5A4564D0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6D542-34C1-43EF-9FC6-C43182E6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679E1-2067-42B7-957D-A344F858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441EB-3C14-421B-8199-E75FF460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88042-DE79-43F7-8E69-3EB3C59C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F302E-3C51-4DEF-9B40-B0001CD7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CE52A-6464-4E9B-B616-288343E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B7939-87AE-4B98-A4A8-4CC35003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13D4A-1C27-4BB1-9B6B-BEB1DAF2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E6B7F-82F2-46DF-9F42-DFACAB23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03C17-0E04-467D-961C-4F9175AA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308-5295-4BFA-B3FA-DB6D86625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9731-13E0-4A92-BF14-BBB4EB45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A8F6D-7DFA-4AA8-A1A8-171A790A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B5FB-242D-43E2-9096-5E668FC1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C03BD-D0C1-4513-AC82-524496064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62C97-3D9A-4B72-BF96-908C1AE4A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737DD-2E98-4006-9483-CC4DF9BA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A5B2-E748-44B5-AC9E-8FBC5A87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108E9-C8BC-413E-9713-EF8DD153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456E1-CDC9-4FCA-AA94-8EF44E03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D6641-8888-432F-AC98-7DDF99E3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6C4-794C-4CDD-A854-91117A9D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47E40-512F-4C21-A15A-F1F1B129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37E7A-19CE-478F-9FF4-75B89D943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32A14-64D0-46C8-B567-BA7298D44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29D97-7AE9-4514-8A93-3EE8CEE8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27D41-7C08-4494-8D66-52BD62C6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A1607-EDD1-4E50-A83C-5C8591C0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8E8A0-D9C3-4243-8E6A-2ECF7E4C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5B578-1315-4DC6-BC63-0F0F68DD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1CC24-914D-40E0-9A0C-433DC659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D95E-B759-46A1-B4AB-21D86D4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0B93-68E9-48E9-AF14-5F11CA9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04A64-A26D-4D49-9EAC-75003C84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D32E2-7260-4065-8DD6-6B6DBDFA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6CF1B-3998-4D97-8C90-73EEC13A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E0164-B797-458A-98BB-A35E5A15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C726D-438C-44B2-850A-E65F48091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1FF37-E658-42A5-B28D-A104E11E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03FC-9387-41FE-8745-2259244A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23F5C-12A3-4D12-A970-FECC919E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AFE09-6B3F-4060-A0DB-9FD06004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E22C6-7B54-4E89-9653-4DBFE3BB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084-DBE6-4BF5-AA78-CB323EEC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97071-64F2-4F3D-8A9D-66D3CCEC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F487E-9158-4666-A736-14BE5B8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AE538-6818-4752-9FB3-1A32FF8E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84894-19A4-4046-9A99-BC88D12B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99A99-6DE6-44B8-8F14-879EE495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EC259-5B0C-42EE-AD31-F57DE7AD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D0309-3D7D-40F7-9DD1-578A586E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FAA94-3CB9-4977-A4AB-0BBB827E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F5C41-A330-4E86-B38B-62BDA61E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A6018-6D57-40C4-AAAC-98666459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3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Rectangle 15"/>
          <p:cNvGrpSpPr/>
          <p:nvPr/>
        </p:nvGrpSpPr>
        <p:grpSpPr>
          <a:xfrm>
            <a:off x="646200" y="969840"/>
            <a:ext cx="4797360" cy="4797720"/>
            <a:chOff x="646200" y="969840"/>
            <a:chExt cx="4797360" cy="4797720"/>
          </a:xfrm>
        </p:grpSpPr>
        <p:pic>
          <p:nvPicPr>
            <p:cNvPr id="427" name="Rectangle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736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E43B-EA23-444A-A684-D411E64112AF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7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48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0E07-BE5A-4968-B07C-91509F0279B2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2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6E1C-6351-460E-AC64-BDCEEB402DC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val 15"/>
          <p:cNvGrpSpPr/>
          <p:nvPr/>
        </p:nvGrpSpPr>
        <p:grpSpPr>
          <a:xfrm>
            <a:off x="914400" y="1401840"/>
            <a:ext cx="225360" cy="231840"/>
            <a:chOff x="914400" y="1401840"/>
            <a:chExt cx="225360" cy="231840"/>
          </a:xfrm>
        </p:grpSpPr>
        <p:pic>
          <p:nvPicPr>
            <p:cNvPr id="60" name="Oval 15" descr=""/>
            <p:cNvPicPr/>
            <p:nvPr/>
          </p:nvPicPr>
          <p:blipFill>
            <a:blip r:embed="rId5"/>
            <a:stretch/>
          </p:blipFill>
          <p:spPr>
            <a:xfrm>
              <a:off x="914400" y="1401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E2C1-34F4-42D8-B3D0-884E53CA79D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7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EA4B-CF07-4B10-95C2-9414671F1C55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Oval 17"/>
          <p:cNvGrpSpPr/>
          <p:nvPr/>
        </p:nvGrpSpPr>
        <p:grpSpPr>
          <a:xfrm>
            <a:off x="2163600" y="2803680"/>
            <a:ext cx="225720" cy="231480"/>
            <a:chOff x="2163600" y="2803680"/>
            <a:chExt cx="225720" cy="231480"/>
          </a:xfrm>
        </p:grpSpPr>
        <p:pic>
          <p:nvPicPr>
            <p:cNvPr id="157" name="Oval 17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572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D87C-E3E1-406E-A314-062AFB8AC43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04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282F-F600-472B-8B65-8322D125C7D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9744-F5E0-4498-AA44-F0603470DCF9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ie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95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Picture 12" descr="4warna .jpg"/>
          <p:cNvPicPr/>
          <p:nvPr/>
        </p:nvPicPr>
        <p:blipFill>
          <a:blip r:embed="rId4"/>
          <a:stretch/>
        </p:blipFill>
        <p:spPr>
          <a:xfrm>
            <a:off x="1041480" y="6303960"/>
            <a:ext cx="1015920" cy="485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3"/>
          <p:cNvSpPr/>
          <p:nvPr/>
        </p:nvSpPr>
        <p:spPr>
          <a:xfrm>
            <a:off x="2133720" y="64771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T62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91D5-85B8-4982-8AFE-5B533AF98A36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E825-01C8-495E-9AF0-92A987DD370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D2C6-AD5D-40CC-AEFB-FA69F73BE7A4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ＭＳ 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3"/>
          <p:cNvSpPr/>
          <p:nvPr/>
        </p:nvSpPr>
        <p:spPr>
          <a:xfrm>
            <a:off x="1447920" y="3962520"/>
            <a:ext cx="7407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0e04"/>
                </a:solidFill>
                <a:latin typeface="Gill Sans MT"/>
                <a:ea typeface="ＭＳ ゴシック"/>
              </a:rPr>
              <a:t>Lecture 13: Operating Systems –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90360" y="2285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Computer Organization </a:t>
            </a:r>
            <a:br>
              <a:rPr sz="3600"/>
            </a:br>
            <a:r>
              <a:rPr b="0" lang="en-GB" sz="3600" spc="-1" strike="noStrike">
                <a:solidFill>
                  <a:srgbClr val="572314"/>
                </a:solidFill>
                <a:latin typeface="Gill Sans MT"/>
                <a:ea typeface="ＭＳ ゴシック"/>
              </a:rPr>
              <a:t>and Architectu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eneral Purpose Computing Systems Categori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-user, single tasking (essentially obsole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-user, multitask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fra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e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time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ting systems for mobile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bedde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S Degree of Activit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ac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known as </a:t>
            </a:r>
            <a:r>
              <a:rPr b="1" lang="en-US" sz="2400" spc="-1" strike="noStrike">
                <a:solidFill>
                  <a:srgbClr val="8dc765"/>
                </a:solidFill>
                <a:latin typeface="Gill Sans MT"/>
              </a:rPr>
              <a:t>conversational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tch 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ubmits programs or </a:t>
            </a:r>
            <a:r>
              <a:rPr b="1" lang="en-US" sz="2400" spc="-1" strike="noStrike">
                <a:solidFill>
                  <a:srgbClr val="8dc765"/>
                </a:solidFill>
                <a:latin typeface="Gill Sans MT"/>
              </a:rPr>
              <a:t>job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ttle to no user inter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nt driv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rupts or service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026"/>
          <p:cNvSpPr/>
          <p:nvPr/>
        </p:nvSpPr>
        <p:spPr>
          <a:xfrm>
            <a:off x="1383840" y="1736640"/>
            <a:ext cx="18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ardware and the O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hardware platform may support a variety of operating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 operating system may work on a variety of platfo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standard operating system that works on different hardwar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program and file port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ables user efficiency through recognizable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implemented through a systems programming language like C++ or Java as opposed to assembly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ervices and Faciliti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process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management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control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control management and interproces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ory managemen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cheduling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ary storage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nagement, communication support, and communication interfa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protection management and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administ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ser Interface and Command Execution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es of user interfa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 - Command Line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I - Graphical User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interface and command processor that interacts with the ker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/Linux:  C, Bourne, bash and Korn she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Langu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M Mainframes – JC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 Windows – .BAT files, Windows Powershe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/Linux – shell scrip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ile Manage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le - logical unit of stor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sic file management system provid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irectory structures for each I/O devi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ols to copy, move, store, retrieve and manipulate fi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nformation about each file in the system and the tools to access that inform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urity mechanisms to protects files and control ac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ditional file management featur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ckup, emergency retrieval and recover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le compress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Journal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ransparent network file ac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82120" indent="-2149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udit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/O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up config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M-type PCs use BIOS (basic input/output syste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drives that implement interrupts and provide other techniques for handling I/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 and p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cess Control Manage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process is an executing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ocess messaging servic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  a pipe in UNIX or Windows that is a temporary software connection between two programs or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 individually executable part of a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res memory and other resources with other threads of the same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emory Manage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track of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dentifies programs loaded into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ount of space each program 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ailable remaining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ents programs from reading and writing memory outside of their allocated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ains queues of waiting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cates memory to programs to be 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allocates a program’s memory space upon program comple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ually implemented with virtual stor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chedul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gh-level schedu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ced in queue based on level of priority and eventually execu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a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ual selection of process(es) that will be executed at any give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preemptive:  program voluntarily gives up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emptive: uses clock interrupt for multitask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xt switch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control to the process that is being dispatch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ing requirements: CPU vs. I/O b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ithout an Operating System…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 instructions must be loaded into memory by ha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user interface except for I/O routines provided with executing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is idle when waiting for user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acility to store, retrieve, or manipulate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ability to control peripheral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un only one program at a time; computer halts at end of each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Achieving Multitasking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one program is waiting for I/O to take place, another program is using the CPU to execute instruction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-sli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e CPU may be switched rapidly back and forth between different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atc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 activated by I/O operation or real time clock interrup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lects next process to ru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haring the CPU during I/O Break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represents a large percentage of a typical program’s exec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2" name="Picture 7" descr="C:\Documents and Settings\All Users\Documents\Home\Bentley\cs220\IrvTextbookV3\Images\Ch13\c13f05.jpg"/>
          <p:cNvPicPr/>
          <p:nvPr/>
        </p:nvPicPr>
        <p:blipFill>
          <a:blip r:embed="rId2"/>
          <a:stretch/>
        </p:blipFill>
        <p:spPr>
          <a:xfrm>
            <a:off x="1143000" y="2895480"/>
            <a:ext cx="73152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7" descr="C:\Documents and Settings\All Users\Documents\Home\Bentley\cs220\IrvTextbookV3\Images\Ch13\c13f06.jpg"/>
          <p:cNvPicPr/>
          <p:nvPr/>
        </p:nvPicPr>
        <p:blipFill>
          <a:blip r:embed="rId2"/>
          <a:stretch/>
        </p:blipFill>
        <p:spPr>
          <a:xfrm>
            <a:off x="1066680" y="1676520"/>
            <a:ext cx="7467840" cy="425916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ime-sharing the CPU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1219320" y="4876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dc765"/>
                </a:solidFill>
                <a:latin typeface="Tahoma"/>
                <a:ea typeface="ＭＳ ゴシック"/>
              </a:rPr>
              <a:t>Time sli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econdary Storage and Securit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ary storage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timizes completion of I/O tasks for efficient disk u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bination of hardware and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 and protection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ect OS from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ect users from other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ent unauthorized entry to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ent unauthorized system use by authorized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Network and Communication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-IP protocol su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te and connect to other compu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ss application data in packets to other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files, I/O devices, and programs from remote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distributed 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mail, remote login, Web services, streaming multimedia, voice over IP telephony, VP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ion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face between communication software and OS I/O control system that provides network ac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ystem Administration Suppor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configuration and setting group configuration polic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ng and deleting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ling and modifying user privile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s systems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876560" y="15238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minist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cku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ftware installations and upgra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installations (system generation), patches, and upgra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tuning and optim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itoring perform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vering los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ystems Tools Exampl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99072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BM z/O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ysgen: reconfiguration to incorporate new equipm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orkload Manager: optimize system resources automatical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nix/Linu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peruser: system administrator account with privileges to override all restrictions and security built into the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dduser: administer user accou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ount/umount: mount and unmount a file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sck: check and repair a file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fsdump/ufsrestore: create and restore backup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indow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rol pan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ask manager (Ctrl-Alt-Del menu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ypical System Status Repor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36" name="Content Placeholder 5" descr="fig_15_05.jpg"/>
          <p:cNvPicPr/>
          <p:nvPr/>
        </p:nvPicPr>
        <p:blipFill>
          <a:blip r:embed="rId2"/>
          <a:stretch/>
        </p:blipFill>
        <p:spPr>
          <a:xfrm>
            <a:off x="1797120" y="1523880"/>
            <a:ext cx="6006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S Configu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99072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ee main configurations for the organization of an operating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nolithic config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314360" indent="-514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/Lin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(layered) configu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314360" indent="-514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314360" indent="-514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2000 and later versions (approximately hierarchica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4400" indent="-51444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croker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314360" indent="-514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onolithic Kerne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awback: stability and integrity must be managed careful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s: UNIX, Lin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41" name="Picture 6" descr="C:\Documents and Settings\All Users\Documents\Home\Bentley\cs220\IrvTextbookV3\Images\Ch13\c13f08.jpg"/>
          <p:cNvPicPr/>
          <p:nvPr/>
        </p:nvPicPr>
        <p:blipFill>
          <a:blip r:embed="rId2"/>
          <a:stretch/>
        </p:blipFill>
        <p:spPr>
          <a:xfrm>
            <a:off x="2895480" y="3048120"/>
            <a:ext cx="39625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tegrated Computer Environmen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84" name="Picture 2054" descr="D:\c13f01.jpg"/>
          <p:cNvPicPr/>
          <p:nvPr/>
        </p:nvPicPr>
        <p:blipFill>
          <a:blip r:embed="rId2"/>
          <a:stretch/>
        </p:blipFill>
        <p:spPr>
          <a:xfrm>
            <a:off x="2438280" y="1371600"/>
            <a:ext cx="4313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Hierarchical Model of an O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43" name="Content Placeholder 5" descr="fig_15_07.jpg"/>
          <p:cNvPicPr/>
          <p:nvPr/>
        </p:nvPicPr>
        <p:blipFill>
          <a:blip r:embed="rId2"/>
          <a:stretch/>
        </p:blipFill>
        <p:spPr>
          <a:xfrm>
            <a:off x="1905120" y="2209680"/>
            <a:ext cx="5638680" cy="3996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 txBox="1"/>
          <p:nvPr/>
        </p:nvSpPr>
        <p:spPr>
          <a:xfrm>
            <a:off x="990360" y="1294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layer is independent of the other lay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ests are passed down to the layer immediately below 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3" descr="_x000b_F14-12_W160                                                    0000352D&#9;CS1-Vol.8                      ACA2EEF9:"/>
          <p:cNvPicPr/>
          <p:nvPr/>
        </p:nvPicPr>
        <p:blipFill>
          <a:blip r:embed="rId2"/>
          <a:srcRect l="0" t="0" r="0" b="20679"/>
          <a:stretch/>
        </p:blipFill>
        <p:spPr>
          <a:xfrm>
            <a:off x="1089000" y="3505320"/>
            <a:ext cx="7978680" cy="23382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icrokernel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inimum essential functiona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system on same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s request services from microkernel which passes message onto appropriate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8 Types of Operating Systems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ngle user, single tasking (obsolet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06800" indent="-406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ngle-user systems and workst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redominant systems in us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cintosh OSX, versions of Windows, Linux and Sun Solar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06800" indent="-406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inframe system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signed to manage large scale computing resour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tensive I/O capability to handle large numbers of transac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upport batch data processing oper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sist of clusters made up of multiprocessor uni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406800" indent="-4068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etwork serve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cused on supporting clients connected to th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proved security, high reliability, backup facilit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8 Types of Operating Systems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bile operating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esigned for small hand-held devices such as PDAs and smart ph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eatures of single-user multitasking systems but with constraints on memory, storage, CPU execution speed and electrical pow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cial keyboard handl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25160" indent="-42516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al-time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or more processes must be able to access the operating system immediate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ultitasking system where the real-time program’s interrupts have very high priori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69280" indent="-42516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ir controller systems, rocket propulsion control systems, car brak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97040" indent="-425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8 Types of Operating Systems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990360" y="137124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mbedded control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pecialized systems designed to control a single piece of equipment such as an automobile or a microwave ov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oftware is usually provided in RO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al-time system dedicated to the particular applic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General Motors Delphi syste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tributed syste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cessing power distributed among computers in a cluster or net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857160" indent="-4572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ample: Distributed Computing Environment (DC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ser Interface (UI)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907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mary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lp the user use the computer system </a:t>
            </a:r>
            <a:r>
              <a:rPr b="1" lang="en-US" sz="2400" spc="-1" strike="noStrike">
                <a:solidFill>
                  <a:srgbClr val="cc9900"/>
                </a:solidFill>
                <a:latin typeface="Gill Sans MT"/>
              </a:rPr>
              <a:t>productive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ke computer facilities accessible to the user to allow the user to get work done conveniently and effici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ondary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 look and feel for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consistent user interface tools to application programs to lower learning curves and increase produ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I Access to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ree different approache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pts commands directly from the user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ither graphical (GUI) or command line (CL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pts and executes groups of commands as a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known as scripting langu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Programming Interface (API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pts and performs requests directly from the user’s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Typical OS User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ing and execution of program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I/O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 and 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user communication and data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 Stat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, file and specialized services for user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UI Utiliti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9907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d in place of programs to manipulate the data within files and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combined using a command language to create powerful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rting data and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ieving data selectively from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ifying data in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gram Execu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99036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perand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ame of files passed to the progra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arameters passed to the program that affects the program behavio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mand Line Interfa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ype the name of the program and submit it to the operating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raphical User Interfac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ouble-click on a graphical ic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ouble-click on a data file icon.  Program associated with the data file is executed with the data file as an operand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Batch mod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un programs non-interactivel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Definition of an Operating System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9907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 collection of computer programs that integrate the hardware resources of the computer and make those resources available to a user and the user’s programs, in a way that allows the user access to the computer in a productive, timely, and efficient manner.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File Comman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99072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le command categor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tor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riev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nipulation of fi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mportant features of a file management syste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ility to treat files by a logical name without regard to physical characteristics or storage loc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Handle physical manipulation of files and translate between logical and physical representa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Issue commands to the OS that store, manipulate and retrieve fil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bility to construct an effective file organiz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mon File Comman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67" name="Content Placeholder 5" descr="fig_16_01.jpg"/>
          <p:cNvPicPr/>
          <p:nvPr/>
        </p:nvPicPr>
        <p:blipFill>
          <a:blip r:embed="rId2"/>
          <a:stretch/>
        </p:blipFill>
        <p:spPr>
          <a:xfrm>
            <a:off x="1066680" y="2209680"/>
            <a:ext cx="77724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/O Device Comman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9907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s for direct operation on I/O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matting and checking di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ing entire dis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output to a screen or pri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Queuing system for spooling output to a prin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unting or unmounting an I/O de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taching or detaching a directory structure of a device to an existing directory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d in Unix/Lin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teruser communication and disk sharing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99072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 sha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ace shared program in a common memory space where all users can reach th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file sharing and data integrity iss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users working on a single docu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b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message passing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-mail, FTP, terminal facilities (telnet, ssh), http, instant messaging, audio and video conferen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services to permit program to communicate with one an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redirection and pipe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ystem Status Information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 system status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ount of available disk sp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ount of available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 of users on the system and who they 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% of time that CPU and I/O channels are bus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gging facility that maintains a file of all keyboard and screen I/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Program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99072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ices the OS provides directly to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process message pa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are and exchange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ribute program processing among different machines on a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s – DCOM, .NET, CORBA, R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I (application programming interfac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brary of service functions that may be called by a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terface Desig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major types of interface desig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 - Command Line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command prom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/Linux command prom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storically the most common OS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tch System 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I - Graphical User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e Macintosh, Windows, Sun workstations, most versions of Linu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ed web browser interface for some combinations of Windows versions and browser ver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mand Line Interfac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&lt;operand1&gt; &lt;operand2&gt;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&lt;switch1&gt; &lt;switch2&gt;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r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yword (switches) and/or position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example to save a directory listing in a fi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 pathparta\pathpartb &gt; putfile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quivalent Linux exam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s –lF pathparta/pathpartb &gt; putfile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Batch System Command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ilar interface to command line interpre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 &lt;operand1&gt; &lt;operand2&gt;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location of programs to be executed and data to be u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a Job Control Language (JC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s are executed with no human inter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: IBM zOS/Job Control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is this different from shell script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raphical User Interfa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use-driven and icon-b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e allocated to the use of a particular program or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in desktop or screens, icons, windows, title bar, task bar, clock, menu bar, and gadgets or widg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perating System – Basic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pts commands and requests from users and users’ programs and responds with appropriate output resul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ages, loads, and executes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ages hardware resources of the computer including interfaces to networks and other external parts of the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e: The operating system itself consists of hundreds or thousands of programs, each specialized for particular OS tas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Interface Desig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90360" y="13712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browser as a user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really part of the operating syste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a consistent, simple interface well-suited to less experienced us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wing proliferation of applications with a web-based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UI Interface – Windows Vista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7" name="Picture 8" descr="fig_16_02.jpg"/>
          <p:cNvPicPr/>
          <p:nvPr/>
        </p:nvPicPr>
        <p:blipFill>
          <a:blip r:embed="rId2"/>
          <a:stretch/>
        </p:blipFill>
        <p:spPr>
          <a:xfrm>
            <a:off x="1219320" y="1371600"/>
            <a:ext cx="736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UI Interface – Linux KDE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89" name="Picture 8" descr="fig_16_03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438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UI Interface – MacIntosh OSX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1" name="Picture 8" descr="fig_16_04.jpg"/>
          <p:cNvPicPr/>
          <p:nvPr/>
        </p:nvPicPr>
        <p:blipFill>
          <a:blip r:embed="rId2"/>
          <a:stretch/>
        </p:blipFill>
        <p:spPr>
          <a:xfrm>
            <a:off x="1676520" y="1447920"/>
            <a:ext cx="57150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GUI vs. CLI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asy to learn and u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ittle train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menable to multi-task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arder to imple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HW/SW requiremen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ires lots of memo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W is complex and difficult to wri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flexible and powerfu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aster for experienced us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combine comman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 use wild cards to apply a command to multiple files or directo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ore difficult to learn and u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X-Window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6" name="Picture 3" descr="C:\Documents and Settings\All Users\Documents\Home\Bentley\cs220\IrvTextbookV3\Images\Ch14\c14f07.jpg"/>
          <p:cNvPicPr/>
          <p:nvPr/>
        </p:nvPicPr>
        <p:blipFill>
          <a:blip r:embed="rId2"/>
          <a:stretch/>
        </p:blipFill>
        <p:spPr>
          <a:xfrm>
            <a:off x="1828800" y="1447920"/>
            <a:ext cx="6172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Multicomputer X-Window Display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698" name="Content Placeholder 6" descr="fig_16_07.jpg"/>
          <p:cNvPicPr/>
          <p:nvPr/>
        </p:nvPicPr>
        <p:blipFill>
          <a:blip r:embed="rId2"/>
          <a:stretch/>
        </p:blipFill>
        <p:spPr>
          <a:xfrm>
            <a:off x="1593720" y="1523880"/>
            <a:ext cx="6559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mmand Languag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90360" y="1112760"/>
            <a:ext cx="79246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 mechanism to combine sequences of commands together.  These pseudo-programs are known as </a:t>
            </a:r>
            <a:r>
              <a:rPr b="1" lang="en-US" sz="2400" spc="-1" strike="noStrike">
                <a:solidFill>
                  <a:srgbClr val="cc9900"/>
                </a:solidFill>
                <a:latin typeface="Gill Sans MT"/>
              </a:rPr>
              <a:t>scripts</a:t>
            </a:r>
            <a:r>
              <a:rPr b="0" lang="en-US" sz="2400" spc="-1" strike="noStrike">
                <a:solidFill>
                  <a:srgbClr val="cc99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 </a:t>
            </a:r>
            <a:r>
              <a:rPr b="1" lang="en-US" sz="2400" spc="-1" strike="noStrike">
                <a:solidFill>
                  <a:srgbClr val="cc9900"/>
                </a:solidFill>
                <a:latin typeface="Gill Sans MT"/>
              </a:rPr>
              <a:t>batch files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up files – OS configuration, user prefer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9960" indent="-240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atures of Command Langu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accept input from the user and can output messages to I/O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ability to create and manipulate variab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 the ability to branch and loo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ility to specify arguments to the program command and to transfer those arguments to variables within the scr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3600" indent="-2008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error detection and reco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Windows Program DOWP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02" name="Content Placeholder 5" descr="fig_16_08.jpg"/>
          <p:cNvPicPr/>
          <p:nvPr/>
        </p:nvPicPr>
        <p:blipFill>
          <a:blip r:embed="rId2"/>
          <a:stretch/>
        </p:blipFill>
        <p:spPr>
          <a:xfrm>
            <a:off x="1149480" y="1447920"/>
            <a:ext cx="776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Example: Linux Shell Script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04" name="Picture 3" descr="C:\Documents and Settings\All Users\Documents\Home\Bentley\cs220\IrvTextbookV3\Images\Ch14\c14f10.jpg"/>
          <p:cNvPicPr/>
          <p:nvPr/>
        </p:nvPicPr>
        <p:blipFill>
          <a:blip r:embed="rId2"/>
          <a:stretch/>
        </p:blipFill>
        <p:spPr>
          <a:xfrm>
            <a:off x="1143000" y="1447920"/>
            <a:ext cx="7848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Concurrent Operation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tasking (multiprogramm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 of concurrent processing to simulate simultaneous execution of multiple programs even when using only a single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s multiuser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ual simultaneous processing of multiple programs using either multiple CPUs or multiple CPU co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perating System – Additional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9246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interfaces for the user and the user’s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management and support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/O support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s of starting the comp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otstrapping or booting the computer or Initial Program Load (IP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les all interrupt proc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ices to allocate resources such as memory, CPU time, and I/O de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urity and protection servi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ystems administr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Operating System Component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9072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ory Resi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 loaded in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only called the ker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ins essential services required by other parts of the operating system and application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ly responsible for managing memory management, processes and tasks, and secondary stor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mory Non-resid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requently used pro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ftware to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otstrap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2314"/>
                </a:solidFill>
                <a:latin typeface="Gill Sans MT"/>
              </a:rPr>
              <a:t>Simplified Diagram of Operating System Services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596" name="Picture 5" descr="fig_15_02.jpg"/>
          <p:cNvPicPr/>
          <p:nvPr/>
        </p:nvPicPr>
        <p:blipFill>
          <a:blip r:embed="rId2"/>
          <a:stretch/>
        </p:blipFill>
        <p:spPr>
          <a:xfrm>
            <a:off x="2971800" y="1447920"/>
            <a:ext cx="34574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1T09:48:45Z</dcterms:created>
  <dc:creator>Pusat Komputer</dc:creator>
  <dc:description/>
  <dc:language>en-US</dc:language>
  <cp:lastModifiedBy>Zainal Nasharuddin</cp:lastModifiedBy>
  <dcterms:modified xsi:type="dcterms:W3CDTF">2011-12-21T10:04:10Z</dcterms:modified>
  <cp:revision>127</cp:revision>
  <dc:subject/>
  <dc:title>Computer Organization  and Architecture</dc:title>
</cp:coreProperties>
</file>